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3.png" ContentType="image/png"/>
  <Override PartName="/ppt/media/image13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4.png" ContentType="image/png"/>
  <Override PartName="/ppt/media/image27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B64-3606-45DE-AB4D-AA2EDBE9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27D-BA51-4874-AF76-D068D5A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697-0FB0-454C-AF0B-D5B6952A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71B-21BB-45CF-8278-B29B246B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2A67-6D84-4673-8573-5B165226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8EEF-2F8C-4B5B-B2F0-51F313DC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8F28-6E36-4B40-9EF5-D70B08AA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85FA-1888-4801-94A7-D6B096C8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DD01-EDB6-461D-8012-E85C766D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9EF8-80F6-442B-99F2-FA5EB85F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71A2-E30A-4367-A2F5-69E4B5DE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D34-D13D-4828-9954-198A5A29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FE6F-6260-4DA9-99F7-9DCB34B7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2261-F638-4974-A5DB-CB445A7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16C6-04F8-4311-8C48-EF2F9D37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44FB-4BE8-4E6A-912B-868EDF6F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0D44-CA10-4084-BEBD-581D6888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912A-E5A6-4C61-8D14-3A3B5C15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291F-6ED4-4557-915E-0E337318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5005-3E91-4E52-9278-F24A8B56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C84D-F29C-4A04-AFC1-CDFDE0FD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4D8E-7812-4C4C-A322-4DC54A5A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066-FC78-4539-AB1F-12857900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FAA9-19D2-43C7-B9BB-5D480F3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62D7-6716-483D-9707-981C7A9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C679-4CAD-488E-AF6A-43C9F30B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9B46-7C24-4DC0-8136-FE7595E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EDE4-9028-4F3F-8B1D-1A13572F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0F113-22E2-4B6F-89ED-894CC129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DEC4-A665-43C8-A3BD-A867570A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ED442-B5B9-416E-8032-E8DD9265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7D3EF-7A7A-402E-BFE4-23DBB262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1DEE-C454-40AA-B5BD-A089143E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AD4-8AE6-423B-BF7C-38511123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B9C1-627D-49F7-BCC1-A57E4BC2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D0037-18E0-498D-B364-330FB8AA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0492-9C3B-4A81-8354-36EE6857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C630-7181-4868-AA12-A297B984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E6256-8D12-4F0C-8F14-D54F64F3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0030-F160-4871-B954-C4F8200B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19FE-6448-49EE-A48E-D924204B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6557-659A-4EC7-B3EF-1C22FA6E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C36E-4C9D-41AB-8A47-79A7539A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B8E7F-AFFB-441B-BFDA-D68D5DBA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17A-33FB-4769-8C33-0A6D9C32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FB92-28E0-4235-A6AE-291DFC7D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F3AD-1EC2-4EFD-AD25-75A3C942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FCE2-DA79-464B-A525-7F989EC8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EBD39-BB37-4C4F-9FC2-1D28D95F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2D537-07D7-4497-B5C5-0607F22A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3310A-A936-496B-AB47-8B3AFC34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CD5DD-8E11-464C-8175-62BAAF33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97BEF-5322-4E1B-9BD6-8D8E88F5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9E2CF-EE68-4567-B446-DDFEF707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196C-A06C-4001-91D3-93E7F91C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EE1-6B2A-4CDF-B6DF-E585D63D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B01C3-2849-48AC-99CB-DC945BF0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204-7757-4BA2-B9A8-E612841B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077-3428-4E91-893F-177B5F5B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292-E1F9-48FA-A273-ABA2C18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05B-7031-4326-9037-863577829449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2B8C-E548-409E-9121-79A30B5282E1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D59C-4F7D-4DE8-BE06-59266CD58730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A807-2EFC-4744-9D8B-38D373FDAF37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A458-C3F4-4480-A43E-CF567E7117DF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http://www.theforce.net/swtc/Pix/given/rb/ds16.jpg"/>
          <p:cNvPicPr/>
          <p:nvPr/>
        </p:nvPicPr>
        <p:blipFill>
          <a:blip r:embed="rId1"/>
          <a:stretch/>
        </p:blipFill>
        <p:spPr>
          <a:xfrm>
            <a:off x="0" y="1730520"/>
            <a:ext cx="9144000" cy="5127480"/>
          </a:xfrm>
          <a:prstGeom prst="rect">
            <a:avLst/>
          </a:prstGeom>
          <a:ln w="0">
            <a:noFill/>
          </a:ln>
        </p:spPr>
      </p:pic>
      <p:pic>
        <p:nvPicPr>
          <p:cNvPr id="391" name="Title 1" descr=""/>
          <p:cNvPicPr/>
          <p:nvPr/>
        </p:nvPicPr>
        <p:blipFill>
          <a:blip r:embed="rId2"/>
          <a:stretch/>
        </p:blipFill>
        <p:spPr>
          <a:xfrm>
            <a:off x="225360" y="225360"/>
            <a:ext cx="8693280" cy="7682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lejandres Gannon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UC Berkeley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now your time allocation before you give the ord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ll out predictable team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 not base it off of 1NC time allocati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ick with your pre-speech time allocati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laces to save tim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opicali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s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Bad argument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rst arguments on each page should be part of a winning strateg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ongest and best card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Establish credibility early with the judg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hrase every argument offensivel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ake every argument cou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ime sucks suck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ake all relevant (winnable) theory argum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lways perm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pecify solvency defici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w Cen MT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each advantage and each mechanis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w Cen MT"/>
              </a:rPr>
              <a:t>Quantify 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each solvency deficit so it can be weighed against the net-benn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dentify and challenge the net-benefi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n’t read two cards that make the same argument EV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ifferentiate your tag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Negative block has a 2:1 or 3:1 time ratio based off of the 2AC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re-empt 2NC cheating and nonsen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1NC kritik will never be the 2NR kritik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eave nothing unchallenge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efend the hou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n’t forget about your 1AC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Identify and research the theories the 1AC defends/relies 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56210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7200" y="4462560"/>
            <a:ext cx="830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eep your mouth shu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ything you want asked, write it down for the 1A to ask i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et the 1A make a list of evidence indicts to tell you during prep or to bring up with you during your speech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56210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9" name="Title 2" descr=""/>
          <p:cNvPicPr/>
          <p:nvPr/>
        </p:nvPicPr>
        <p:blipFill>
          <a:blip r:embed="rId1"/>
          <a:stretch/>
        </p:blipFill>
        <p:spPr>
          <a:xfrm>
            <a:off x="457200" y="4462560"/>
            <a:ext cx="830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art prepping out answers to the best possible 2N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rite out impact overview using the context of the deb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2NR won’t make many new arguments the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ircle the arguments that the 2NR has to answer to win the deb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7200" y="56210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457200" y="4462560"/>
            <a:ext cx="830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art with the </a:t>
            </a: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2AR mome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ake a step back and evaluate the big pictu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ook over your flow after you’ve written your 2AR out so you remember what you’re sayi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ave the 1A get evidence cards for you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ive the 1A 30-45 seconds at the beginning of prep to share their though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ave the 1A look over your overview to make it more efficie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is the nexus questi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rgument that will decide the deba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re are you winning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re are you losing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at argument will decide every othe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ie everything other argument back to the 2AR momen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nd it early, find it ofte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rst words of the 2AR are first words of RF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o for 3 argum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n’t extend every argument you hav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eep track of the 2AR moment and don’t stray too far from i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tter to win 100% of 3 arguments than 49% of 7 argum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pply the arguments you’re soundly winning to everything else on the flow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You will not 100% of the arguments in the deb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aking concessions to the negative on arguments you are losing will gain trust with the judge and give credibility to other claims you are maki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0" name="Picture 2" descr="http://comicrelated.com/artwork/darthVader_hmed2_3p.hmedium.jpg"/>
          <p:cNvPicPr/>
          <p:nvPr/>
        </p:nvPicPr>
        <p:blipFill>
          <a:blip r:embed="rId2"/>
          <a:stretch/>
        </p:blipFill>
        <p:spPr>
          <a:xfrm>
            <a:off x="2514600" y="3581280"/>
            <a:ext cx="3886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eep track of the big pictu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ly answer the arguments that matter/are releva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ell the judge why you’re ignoring certain arguments or why they’re answered elsewhe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auty of the 2A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Justify them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ie them back to 1AR languag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2NR didn’t compare two arguments or explain why a particular argument was wrong which puts the burden on the 2AR to now make that comparis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rguments are not new if they are based off of 2NR mistakes that the 2AR should have the right to capitalize 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2AR is all about saying why your arguments matt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hoose your strongest point and make it more important or relevant to the judges decision than your opponents strongest poi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 confident in your ability and after the deb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 passionat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13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does this team usually rea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are common strategies against your affirmativ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coaches are they speaking t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hat do their cards look lik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hort politics card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Multi-colored card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-highlighted card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re they scrambling or “business as usual”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Hats, Headers, and Foldi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lphabetical vs frequency of u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void unnecessary card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uplicate where necessar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et the 2A prep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ackflow the 2AC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rds from non-core aff fil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oughts on cp tex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1" name="Picture 2" descr="http://i0.kym-cdn.com/photos/images/original/000/037/162/04.jpg?1264185458"/>
          <p:cNvPicPr/>
          <p:nvPr/>
        </p:nvPicPr>
        <p:blipFill>
          <a:blip r:embed="rId2"/>
          <a:stretch/>
        </p:blipFill>
        <p:spPr>
          <a:xfrm>
            <a:off x="2362320" y="3581280"/>
            <a:ext cx="4032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rep during the 1NC as the 1NC is making argum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f you fall behind, leave that aside and get caught up, don’t let a backlog develop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n’t stand up until you understand every argument you’re answeri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lways flow every single card and analytic argument on ca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56210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5" name="Title 3" descr=""/>
          <p:cNvPicPr/>
          <p:nvPr/>
        </p:nvPicPr>
        <p:blipFill>
          <a:blip r:embed="rId1"/>
          <a:stretch/>
        </p:blipFill>
        <p:spPr>
          <a:xfrm>
            <a:off x="457200" y="4462560"/>
            <a:ext cx="830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Upsets happen when the 2AC doesn’t </a:t>
            </a: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fully understand a 1NC argume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Upsets happen when the 2AC doesn’t </a:t>
            </a: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read offen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8" name="Picture 2" descr="http://3.bp.blogspot.com/-1tR5kHcn7iU/TdQhjKTEI-I/AAAAAAAAABw/DcL2DJvx8eo/s1600/mural__death_star_explosion.jpg"/>
          <p:cNvPicPr/>
          <p:nvPr/>
        </p:nvPicPr>
        <p:blipFill>
          <a:blip r:embed="rId2"/>
          <a:stretch/>
        </p:blipFill>
        <p:spPr>
          <a:xfrm>
            <a:off x="1676520" y="3124080"/>
            <a:ext cx="56386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Classic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opicalit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unterplans/kritik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isadvantages in descending thre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Advance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opicalit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unterplans/kritik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As in Nike Swoosh ord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29541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01:11:55Z</dcterms:created>
  <dc:creator>Andres</dc:creator>
  <dc:description/>
  <dc:language>en-US</dc:language>
  <cp:lastModifiedBy>The Adams Family</cp:lastModifiedBy>
  <dcterms:modified xsi:type="dcterms:W3CDTF">2012-08-29T13:13:16Z</dcterms:modified>
  <cp:revision>21</cp:revision>
  <dc:subject/>
  <dc:title>2A Terrorism</dc:title>
</cp:coreProperties>
</file>